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08DC-522D-4EA4-AC01-745F70A06B5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DB74-3A6E-480D-81AF-22E0516FC95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D08A-072C-465D-9F78-3D3B92BEEE2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5E1F-D941-4369-AF7F-EC42ACA46BD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9D4C-8A18-4B64-A3F7-40C00B26557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7253-BA5E-4EFF-B23B-4442AF0C715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8C9C-1993-4906-94D9-A9DED47DFE1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1101-1145-4A35-8CA9-E6D57D02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17DF-6DF4-4055-97F1-87FDBCB1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CC7D-F770-4730-B6C0-B974A5F4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3282-732E-4DDA-A1C1-D7D6EEDE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BD16-4402-4088-9428-7253DCB5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BE8A-0734-4C77-99B7-14647650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3FFD-EF89-4C06-846B-4855C2DC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590C-7344-49D6-A806-7C7C0F76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AFD6-B66E-48CB-B449-E8889212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88CE-9A95-4669-9A98-CDD02CFF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DE1D-7631-4D4D-A87F-F18263EF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A137-F4A6-4651-8C3F-E83FCD9D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3B58-40BB-42EC-A41A-AA630034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6D72-36AE-472F-A6BA-692F11BC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7908-E587-4E91-A11E-CA6C528B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A687-3EA8-4294-A1DC-183B97D9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0F60-30E9-4286-ADBB-CB8BF574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EAE5B-C013-4846-ABAC-A93CDFAF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9A6A9-7DE9-4193-9A7E-708660DD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05B84-6CC0-43C7-A172-53C67E76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77F95-0F5E-43FE-BB1C-BDC926D7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A19B4-463A-455C-979B-303A4944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F8B3-FA96-4C2A-A2E9-C061828A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CFC99-52C5-4B9E-B78C-A4E3CA57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6C4AB-EE33-468F-B6FA-7C3EF9D6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E83DF-6CB6-47E9-9253-FDFF049C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F2F6E-24B6-4C66-A3FC-631F1733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99668-0E1A-462A-8436-E6978109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5ADA4-8FB5-4C8F-A171-FA27979D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5BA95-3A21-4F9B-9810-2F741EEC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A58A8-3753-4530-89B8-14B2FDD5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87DA1-C21C-4E25-9037-374D68ED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227B2-39CF-4D90-9A34-B566ABB5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BFC6-40AA-45AF-9C01-E4FA51E2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FC4BC-DC44-4E11-B099-80B5D1FC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FFDD7-F5CD-46A4-8E4F-ED59C848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2F0AD-B291-4880-9047-7AAC575A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CA170-5A89-4E15-8879-D72E50FB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570ED-F87A-4AE3-9A97-6B225608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28B0E-94B8-4DEB-AA02-BAB32569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1D0C1-B49F-4996-B989-8839DB81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90109-86F1-45D9-968A-F323FA57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1A53A-F08E-497F-85B6-34B28A36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286-1058-4BC5-9845-6FE97047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6889-E1AD-4772-BFB2-E30F0040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911C-8FB6-4476-AC81-45C58B2E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770E-1277-4F03-B0D9-09C816E2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9CFF-471B-45A6-8666-F3953F73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DF3E-07E4-4996-A650-6E54592068A0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B05C-4B78-4A65-AB6B-2698AD704ADB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4599-FE15-4229-AB4C-D71449D26BCC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9CDD-2915-4B85-8F65-4B042F1672F3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8E99-B724-4BA9-8271-33511FD66316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19C7-356F-43AA-B83B-D3210CF71C60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5C34-D82B-4764-96B7-FD8801C0AD14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A4CA-43A8-429E-BCBA-7E622895324F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12640" y="433440"/>
            <a:ext cx="7491600" cy="1187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55280" y="1700280"/>
            <a:ext cx="72010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ssigned work: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g. 449 #1abc, 2abc, 5, 7-9,12,15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Write out what “you think” the vector, parametric a symmetric equations of a line in R</a:t>
            </a:r>
            <a:r>
              <a:rPr b="0" lang="en-CA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would be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44928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3 Vector, Parametric &amp; Symmetric Equations of a Line in R</a:t>
            </a:r>
            <a:r>
              <a:rPr b="0" lang="en-CA" sz="3200" spc="-1" strike="noStrike" u="sng" baseline="30000">
                <a:solidFill>
                  <a:srgbClr val="04617b"/>
                </a:solidFill>
                <a:uFillTx/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 R</a:t>
            </a:r>
            <a:r>
              <a:rPr b="0" lang="en-CA" sz="28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6" name="Object 12"/>
          <p:cNvGraphicFramePr/>
          <p:nvPr/>
        </p:nvGraphicFramePr>
        <p:xfrm>
          <a:off x="1908000" y="2637000"/>
          <a:ext cx="530388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637000"/>
                    <a:ext cx="53038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3 Vector, Parametric &amp; Symmetric Equations of a Line in R</a:t>
            </a:r>
            <a:r>
              <a:rPr b="0" lang="en-CA" sz="3200" spc="-1" strike="noStrike" u="sng" baseline="30000">
                <a:solidFill>
                  <a:srgbClr val="04617b"/>
                </a:solidFill>
                <a:uFillTx/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 R</a:t>
            </a:r>
            <a:r>
              <a:rPr b="0" lang="en-CA" sz="28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0" name="Object 3"/>
          <p:cNvGraphicFramePr/>
          <p:nvPr/>
        </p:nvGraphicFramePr>
        <p:xfrm>
          <a:off x="2340000" y="2413080"/>
          <a:ext cx="417672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413080"/>
                    <a:ext cx="417672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3 Vector, Parametric &amp; Symmetric Equations of a Line in R</a:t>
            </a:r>
            <a:r>
              <a:rPr b="0" lang="en-CA" sz="3200" spc="-1" strike="noStrike" u="sng" baseline="30000">
                <a:solidFill>
                  <a:srgbClr val="04617b"/>
                </a:solidFill>
                <a:uFillTx/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 R</a:t>
            </a:r>
            <a:r>
              <a:rPr b="0" lang="en-CA" sz="28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835280" y="2581200"/>
          <a:ext cx="5759280" cy="17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581200"/>
                    <a:ext cx="575928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3 Vector, Parametric &amp; Symmetric Equations of a Line in R</a:t>
            </a:r>
            <a:r>
              <a:rPr b="0" lang="en-CA" sz="3200" spc="-1" strike="noStrike" u="sng" baseline="30000">
                <a:solidFill>
                  <a:srgbClr val="04617b"/>
                </a:solidFill>
                <a:uFillTx/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125280" indent="-12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1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: Find a direction vector fo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The line that passes through P(6,-4,1) &amp; Q(2,-8,-5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A line perpendicular to the xz pla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8" name="Object 3"/>
          <p:cNvGraphicFramePr/>
          <p:nvPr/>
        </p:nvGraphicFramePr>
        <p:xfrm>
          <a:off x="1258920" y="3562200"/>
          <a:ext cx="5184720" cy="15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562200"/>
                    <a:ext cx="5184720" cy="15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4"/>
          <p:cNvGraphicFramePr/>
          <p:nvPr/>
        </p:nvGraphicFramePr>
        <p:xfrm>
          <a:off x="1187280" y="5445000"/>
          <a:ext cx="5442120" cy="10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445000"/>
                    <a:ext cx="544212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3 Vector, Parametric &amp; Symmetric Equations of a Line in R</a:t>
            </a:r>
            <a:r>
              <a:rPr b="0" lang="en-CA" sz="3200" spc="-1" strike="noStrike" u="sng" baseline="30000">
                <a:solidFill>
                  <a:srgbClr val="04617b"/>
                </a:solidFill>
                <a:uFillTx/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: Find vector, parametric &amp; symmetric equations of the line which passes through A(2,-2,-8) and B(5,-2,-14)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1187280" y="2924280"/>
          <a:ext cx="6831360" cy="37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924280"/>
                    <a:ext cx="6831360" cy="37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7:07:38Z</dcterms:created>
  <dc:creator>sandy</dc:creator>
  <dc:description/>
  <dc:language>en-US</dc:language>
  <cp:lastModifiedBy>sandy</cp:lastModifiedBy>
  <dcterms:modified xsi:type="dcterms:W3CDTF">2010-12-30T16:48:40Z</dcterms:modified>
  <cp:revision>278</cp:revision>
  <dc:subject/>
  <dc:title>2.2 Derivatives of Polynomial Functions</dc:title>
</cp:coreProperties>
</file>